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8E2B-67BF-4B94-B5BA-51C7EAFA2E07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lk-through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4382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, a translator is able to export “only a subset”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, the exporting application’s native data structures many not be fully populated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5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6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382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n import translator may have the potential to populate “only a subset” of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rapid introduc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5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6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2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9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7432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 a translator will employ “only a subset”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6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9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7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40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3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ical Coru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9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2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2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5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cp:lastPrinted>1999-06-19T15:36:00Z</cp:lastPrinted>
  <dcterms:modified xsi:type="dcterms:W3CDTF">1999-06-23T00:34:30Z</dcterms:modified>
  <cp:revision>23</cp:revision>
  <dc:subject/>
  <dc:title>AISC CIS/2  Workshop #I</dc:title>
</cp:coreProperties>
</file>